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08A3-61FE-4D17-B5FE-C28F8B1C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106-0E29-4927-B363-321E025E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2F7-21F4-451F-BE3F-563A883E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950-17FF-4C57-89BC-FB933929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6800-6870-4217-BAFE-10F6B870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C0E4-8983-4291-98A6-D923994C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34DB-FB1C-461C-9832-527DAED2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FBF4-3078-490B-A707-3C6173B9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3902-1B09-4069-BCDA-9AB55BDA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F640-8D9A-40E5-B9BE-2F8182AD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C929-2168-4A03-9CFE-80905F79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EF8-9149-41DF-9B14-97C8153A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8DDB-A64A-4FA3-B1C3-F697DFB8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B25D-2242-4424-89DC-2EA36B8A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2236-77B9-4EA5-8E11-FD60F195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69F2-B14E-44CE-8E7C-D634810C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C371-92FF-45A8-BFB1-F3CA7398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4408-9B54-4BE5-BD43-B50A0BA2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855-76B0-499E-8078-4F5BD4EC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5CA-203D-456D-8CA2-8E547475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83D-37DB-4F73-87F1-4EA164DD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446-8043-4470-BF75-3113E602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088-640A-4B0A-863C-A0700B4D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02E-59AA-45B8-9CE7-AECB355F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203A-DD4B-4EDC-9982-C44018A69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3F06-D52C-4E52-84E9-B553CCC27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Preterite Verbs with </a:t>
            </a:r>
            <a:r>
              <a:rPr b="0" i="1" lang="es-ES" sz="4600" spc="-1" strike="noStrike">
                <a:solidFill>
                  <a:srgbClr val="ffffff"/>
                </a:solidFill>
                <a:latin typeface="Arial"/>
              </a:rPr>
              <a:t>i &gt; y</a:t>
            </a: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600"/>
            </a:b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Stem Chang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Preterite </a:t>
            </a:r>
            <a:r>
              <a:rPr b="0" i="1" lang="es-ES" sz="3800" spc="-1" strike="noStrike">
                <a:solidFill>
                  <a:srgbClr val="ffffff"/>
                </a:solidFill>
                <a:latin typeface="Arial"/>
              </a:rPr>
              <a:t>i &gt; y</a:t>
            </a: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 Stem Change Verb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ertain verbs require a special spelling chan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becomes 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Ud/él/ella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Uds./ellos/ella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for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LEER= to re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e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eí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eí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eíst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CAERSE= to fall dow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e ca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te caí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e ca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nos caí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s caíst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e ca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94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CREER= to believe, to thin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e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eí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e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eí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eíst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e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OÍR= to he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í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íst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DESTRUIR= to destro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destru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destru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destru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destrui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destruist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destru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8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CONCLUIR= to conclu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60020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clu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clu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clu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648320" y="160020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clui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cluist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clu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03:26:18Z</dcterms:created>
  <dc:creator>Suzanne M. Shirley</dc:creator>
  <dc:description/>
  <dc:language>en-US</dc:language>
  <cp:lastModifiedBy>Jessica Kaplan</cp:lastModifiedBy>
  <dcterms:modified xsi:type="dcterms:W3CDTF">2012-10-03T12:51:55Z</dcterms:modified>
  <cp:revision>8</cp:revision>
  <dc:subject/>
  <dc:title>Preterite Verbs with i &gt; y  Stem Change</dc:title>
</cp:coreProperties>
</file>